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267-B93C-4182-AA7B-75B18AB4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0F1-C268-4B2F-94C3-A0DD82E9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0DD-FA02-4DBB-995C-DA22A5F2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945-75C2-4D2A-A0FE-FBA16AE1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749-F77D-4C33-8B6C-67776438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617D-2CED-4230-808E-B990D4A2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D1DE-46A0-4A89-88CF-2B7E0281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CEE0-6FB7-494F-B50B-1EE53DED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F0E4-8D09-40D1-BE9F-199E8576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15C-6DB0-4698-A711-8975697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70C-52E1-43FD-A7D1-E9D573C9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CC9-920C-47B8-8A85-E61412E8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065B-9C6A-4F88-85A2-8CF8938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2FD2-AF29-4A70-B553-D1AC353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231D-1090-46E6-AE30-EA89411A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2B1C-AAFB-4ED5-967F-B4C67C37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743B-D61A-4A1C-BD76-E33AD8CC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8F9-41C6-4DC8-9EE4-99581D0E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C2B-9CD2-4509-9B31-B657DBB0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CB3-164F-4413-A933-12B8BB25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837-79D1-40D1-A9AC-325C942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6A0-97E8-4119-9FEE-11A340B6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972-BF8D-4213-BFD1-A8270B0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74E-7BB6-4EEE-AEBC-4F78699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CAB1-7BFC-4E7C-AB26-E43FDEB9CC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FB09-77B2-47BB-A0DC-FE6DF02E89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 Molecular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914400" y="1295280"/>
            <a:ext cx="77724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lecular formula of a compound with an empirical formula of 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nd a molecular mass of 90g/m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914400" y="2895480"/>
            <a:ext cx="41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empirica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the molecular mass by the empirical mass to determine how much larger the mass of the molecule is compared to the 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e subscripts of each element in the empirical formula by the factor determined in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4419720" y="2895480"/>
            <a:ext cx="4419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1(12g)+2(1g)+1(16g) = 3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5" descr=""/>
          <p:cNvPicPr/>
          <p:nvPr/>
        </p:nvPicPr>
        <p:blipFill>
          <a:blip r:embed="rId1"/>
          <a:stretch/>
        </p:blipFill>
        <p:spPr>
          <a:xfrm>
            <a:off x="6010200" y="3809880"/>
            <a:ext cx="1731960" cy="9572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4833720" y="5800680"/>
            <a:ext cx="206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x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x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x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7273440" y="5740560"/>
            <a:ext cx="1641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nger Molecular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62120" y="15573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molecular mass, determine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1066680" y="327672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molecular formula of a compound that has a mass of 34g and contains 94.1%  oxygen and 5.9% hydrogen by m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ing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onuts"/>
          <p:cNvPicPr/>
          <p:nvPr/>
        </p:nvPicPr>
        <p:blipFill>
          <a:blip r:embed="rId1"/>
          <a:stretch/>
        </p:blipFill>
        <p:spPr>
          <a:xfrm>
            <a:off x="1033560" y="1600200"/>
            <a:ext cx="2166840" cy="1644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RQlmY-IEAeUfCcA09UlJJodBB9jxZ6sdjOLeAE5c3R-zJi7FwIlg&amp;t=1"/>
          <p:cNvPicPr/>
          <p:nvPr/>
        </p:nvPicPr>
        <p:blipFill>
          <a:blip r:embed="rId2"/>
          <a:stretch/>
        </p:blipFill>
        <p:spPr>
          <a:xfrm>
            <a:off x="3657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OKE"/>
          <p:cNvPicPr/>
          <p:nvPr/>
        </p:nvPicPr>
        <p:blipFill>
          <a:blip r:embed="rId3"/>
          <a:stretch/>
        </p:blipFill>
        <p:spPr>
          <a:xfrm>
            <a:off x="6324480" y="1600200"/>
            <a:ext cx="2381400" cy="1847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1295280" y="39625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ole = 6.02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600200" y="483696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2"/>
          <p:cNvGrpSpPr/>
          <p:nvPr/>
        </p:nvGrpSpPr>
        <p:grpSpPr>
          <a:xfrm>
            <a:off x="215280" y="4952880"/>
            <a:ext cx="8518680" cy="1008720"/>
            <a:chOff x="215280" y="4952880"/>
            <a:chExt cx="8518680" cy="1008720"/>
          </a:xfrm>
        </p:grpSpPr>
        <p:sp>
          <p:nvSpPr>
            <p:cNvPr id="104" name="Text Box 15"/>
            <p:cNvSpPr/>
            <p:nvPr/>
          </p:nvSpPr>
          <p:spPr>
            <a:xfrm>
              <a:off x="3276720" y="4952880"/>
              <a:ext cx="325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rticles Nam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215280" y="5562720"/>
              <a:ext cx="85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oms, formula units (ionic compounds), molecules (covalent compoun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 to Particl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cules of water are there in 2.4 moles of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s of copper contain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per a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lume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32588093"/>
          <p:cNvPicPr/>
          <p:nvPr/>
        </p:nvPicPr>
        <p:blipFill>
          <a:blip r:embed="rId1"/>
          <a:stretch/>
        </p:blipFill>
        <p:spPr>
          <a:xfrm>
            <a:off x="1371600" y="3809880"/>
            <a:ext cx="26305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533520" y="15238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vogadro, the mass of one mole of a gas a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22.4L regardless of the gas’ 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2034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73320" y="3200400"/>
            <a:ext cx="78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P = Standard Temperature and Pressure (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 and 1 atmosp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6a00d83453c2c669e20134885f52fb970c-800wi"/>
          <p:cNvPicPr/>
          <p:nvPr/>
        </p:nvPicPr>
        <p:blipFill>
          <a:blip r:embed="rId2"/>
          <a:stretch/>
        </p:blipFill>
        <p:spPr>
          <a:xfrm>
            <a:off x="4800600" y="39625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s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lead"/>
          <p:cNvPicPr/>
          <p:nvPr/>
        </p:nvPicPr>
        <p:blipFill>
          <a:blip r:embed="rId1"/>
          <a:stretch/>
        </p:blipFill>
        <p:spPr>
          <a:xfrm>
            <a:off x="533520" y="340668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opper"/>
          <p:cNvPicPr/>
          <p:nvPr/>
        </p:nvPicPr>
        <p:blipFill>
          <a:blip r:embed="rId2"/>
          <a:stretch/>
        </p:blipFill>
        <p:spPr>
          <a:xfrm>
            <a:off x="6172200" y="335268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609480" y="144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one mole of a substance is unique to that substance and is based on the sum of the atomic masses of the elements in that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water"/>
          <p:cNvPicPr/>
          <p:nvPr/>
        </p:nvPicPr>
        <p:blipFill>
          <a:blip r:embed="rId3"/>
          <a:stretch/>
        </p:blipFill>
        <p:spPr>
          <a:xfrm>
            <a:off x="3276720" y="3352680"/>
            <a:ext cx="2361960" cy="1890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2286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lead = 207.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2004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water = 18.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6172200" y="5410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copper = 63.6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921960" y="6019920"/>
            <a:ext cx="751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Mass of H</a:t>
            </a:r>
            <a:r>
              <a:rPr b="0" lang="en-US" sz="1800" spc="-1" strike="noStrike" baseline="-25000">
                <a:solidFill>
                  <a:srgbClr val="0707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O = mass of two hydrogen atoms + mass of one oxy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Composition by Ma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1640" y="1447560"/>
            <a:ext cx="3962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the product of the number of each atom and their masses divided by the total mass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www.insanecats.com/images/google_ball_pit.png"/>
          <p:cNvPicPr/>
          <p:nvPr/>
        </p:nvPicPr>
        <p:blipFill>
          <a:blip r:embed="rId1"/>
          <a:stretch/>
        </p:blipFill>
        <p:spPr>
          <a:xfrm>
            <a:off x="533520" y="1447920"/>
            <a:ext cx="38433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838080" y="358128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composition of Mg(Br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380880" y="4343400"/>
            <a:ext cx="8458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(mass Mg) + 2(mass of Br) + 8(mass of oxygen) = Mass of Mg(Br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998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formula which contains the lowest whole number ratio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883800" y="2743200"/>
            <a:ext cx="77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ic formulas always contain the lowest whole numbe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compounds do not always contain the lowest whole numbe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990720" y="3657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mpirical Formula of the following comp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523880" y="44197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9625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867280" y="44197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termining the Empirical Formula of a Compo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empirical formula for a compound which contains 25.9% nitrogen and 74.1% oxygen by m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914400" y="3733920"/>
                <a:ext cx="3276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g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mo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4"/>
          <p:cNvSpPr/>
          <p:nvPr/>
        </p:nvSpPr>
        <p:spPr>
          <a:xfrm>
            <a:off x="457200" y="2514600"/>
            <a:ext cx="39625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Covert % to mass (if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Convert mass to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Divide each molar quantity by the lowest number of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Multiply by the smallest number needed to create a whole number ratio (if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2438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a 100g sample.  In that sample 25.9 g is nitrogen and 74.1g is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503040" y="1295280"/>
            <a:ext cx="123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4267080" y="3733920"/>
                <a:ext cx="3041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mol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13"/>
          <p:cNvSpPr/>
          <p:nvPr/>
        </p:nvSpPr>
        <p:spPr>
          <a:xfrm>
            <a:off x="7518600" y="3886200"/>
            <a:ext cx="132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4495680" y="4648320"/>
                <a:ext cx="16765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6732000" y="4800600"/>
            <a:ext cx="98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929840" y="5867280"/>
            <a:ext cx="135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x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7025760" y="5791320"/>
            <a:ext cx="8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f the following are empirical formulas and which represent molecular formula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219320" y="327672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581280" y="327672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400800" y="3200400"/>
            <a:ext cx="121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1523880" y="4495680"/>
            <a:ext cx="121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3352680" y="4419720"/>
            <a:ext cx="17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6324480" y="4419720"/>
            <a:ext cx="17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3:39:21Z</dcterms:created>
  <dc:creator>udsd</dc:creator>
  <dc:description/>
  <dc:language>en-US</dc:language>
  <cp:lastModifiedBy>dpav</cp:lastModifiedBy>
  <dcterms:modified xsi:type="dcterms:W3CDTF">2011-04-12T11:55:06Z</dcterms:modified>
  <cp:revision>9</cp:revision>
  <dc:subject/>
  <dc:title>The Mole</dc:title>
</cp:coreProperties>
</file>